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461-7EC2-4CCF-A4D5-35FC8CCE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078-4FED-4EC8-9562-5287230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65C-1B0A-4C21-BD57-2FC245D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D84-5DF4-48CB-B71C-A6C31B69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3D1-EBA5-44C8-9AB6-22A267ED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31B-BB91-4007-B373-7957D63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88D-5BBB-4B6F-9228-08EA9232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E74-6EDF-4D30-9A51-FC5F4D4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422-5F55-46CD-BCD9-71FF891D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9E8-C14D-456F-93B3-8E7D004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206-E595-458F-A40C-36C59A6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079-FDE9-47CC-99F3-C40E3C9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FAD-C849-4547-8559-C633CD2A9B1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any given day we can play many different roles in society – eg. 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ren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an drive their kids to school and then go to work an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ach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alues – Society carries with it a system of values.  A particular set of values are assigned to each role.  The practitioners of these roles are expected to accept and internalize these valu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orms – These are rules set out for a particular role that are considered standard behaviour (eg. Catholic Priests are expected to be celiba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les – These are developed by cultures based on their system of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v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behaviour that is different from the societal norm.  It is deviant because we, as a society, do not accept 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iance can range from simple eccentricities to behaviour that harms society or is considered disrepu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has formed a strong link with the justic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fundamental component of modern imprisonment is rehabilitation, or trying to re-educate and resocialize inmates so that they can grow to accept society’s values and n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76040"/>
            <a:ext cx="975348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42920" y="351000"/>
            <a:ext cx="68310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Soci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cial science discipline that looks at the development and structure of human society (institutions) and 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is the study of social life, social change, and the social causes and consequences of human behaviour. (American Sociological Associ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Subjec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ciologists investigate the structure of groups, organizations, and societies, and how people interact within these contex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l human behavior is social so the subject matter of sociology ranges from the intimate family to the hostile mob; from organized crime to religious cults; from the divisions of race, gender and social class to the shared beliefs of a common culture; and from the sociology of work to the sociology of sports. (AS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Roles w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 all play certain roles in our society – Social Scientists refer to this as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stat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tus is the term used to describe our position within an institu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g. Fellowes High School – There are many positions at Fellowes ranging from teacher, vice-principal, guidance counselor, principal, student and superintendent –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an you put them in order on the hierarc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Hierarchy is the ranking system used in any particular environment based on authority ot pow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ch position or role requires a certain type of expertise which is valued by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 order to distinguish between these roles people are expected to dress and act in a certain wa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43:34Z</dcterms:created>
  <dc:creator>Jason</dc:creator>
  <dc:description/>
  <dc:language>en-US</dc:language>
  <cp:lastModifiedBy>Jason</cp:lastModifiedBy>
  <dcterms:modified xsi:type="dcterms:W3CDTF">2010-09-15T16:30:55Z</dcterms:modified>
  <cp:revision>5</cp:revision>
  <dc:subject/>
  <dc:title>Sociology</dc:title>
</cp:coreProperties>
</file>